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 августа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move the slide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951F-08CA-4BFC-A619-B1DF29E929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0C59-9F91-45B1-9F20-ABB0BDA4EA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Дата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 августа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барь В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Верхний колонтитул 6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441B-2B49-4B7E-9B51-3C93909B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4D6E-72F3-476D-8972-E7065130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24B3-DA19-44E1-999D-5048F837F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DF08-B98E-4328-953F-362D3913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0BEC-320B-40F1-BDF9-89AF54F0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9032-E38B-4EF3-BCF5-843B5FAE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729E-E7CE-4E32-A3AB-37AC58B2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4494-C6AF-42F8-A7C5-9C8EEC68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E2DC-5B84-45F0-99A5-489D8C69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EE6B-6769-41CB-B964-67AF2DC8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36F7-94B6-4AD6-A61B-68EEC88E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B721-75D4-42DF-B088-7230ABED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6300-2392-4625-A000-623D0706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75B3-3614-4ED9-94E0-EAD94850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A2CD-4790-4D18-8676-6A875D5D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772E-AEB0-47CD-AB2B-66C51696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9C5C-CE23-46C0-88DD-B8596A33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CFB0-A82C-425C-B969-9E922799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FB2-212D-4613-814D-84D1D8A8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4E09-2C68-428A-8DD1-E75AB63A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B9CF-688C-4B4A-AD15-B176B65F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05A9-2915-41A0-AF32-6C529388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DC86-9DF1-4E30-B0EC-E6A10B94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E770-1DB4-4B16-B5A6-1501C7C8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int1234ыярфенш"/>
          <p:cNvPicPr/>
          <p:nvPr/>
        </p:nvPicPr>
        <p:blipFill>
          <a:blip r:embed="rId2"/>
          <a:stretch/>
        </p:blipFill>
        <p:spPr>
          <a:xfrm>
            <a:off x="0" y="0"/>
            <a:ext cx="2335320" cy="179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D5DF-4C5F-4A1C-95F5-1A0453D6A657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79F2-D68C-467A-95B6-8A1356B65317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ortfolio-edu.ru/" TargetMode="External"/><Relationship Id="rId2" Type="http://schemas.openxmlformats.org/officeDocument/2006/relationships/hyperlink" Target="http://educomm.iro.perm.ru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213000"/>
            <a:ext cx="7632720" cy="2190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Сетевое сообщество педагогов Пермского края как ресурс профессионального роста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4032360" y="5516640"/>
            <a:ext cx="48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таева Татьяна Викторовн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ик отдела профессионального развития педагогов  ИРО 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6ACF-B256-4AEF-AD3C-1536716DCB50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640" y="11556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рофстандарт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едагога-библиотекаря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иказ Министерства труда и социальной защиты РФ от 10 января 2017 г. № 10н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«Об утверждении профессионального стандарта </a:t>
            </a: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«Специалист в области воспитания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3DB6-25C3-4F1A-8796-337DF5A9F46D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82072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6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рофстандарт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едагога-библиотекаря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FAFB-CFD2-4DB0-802A-2349740158E4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95280" y="1628640"/>
          <a:ext cx="8424720" cy="4608720"/>
        </p:xfrm>
        <a:graphic>
          <a:graphicData uri="http://schemas.openxmlformats.org/drawingml/2006/table">
            <a:tbl>
              <a:tblPr/>
              <a:tblGrid>
                <a:gridCol w="4114800"/>
                <a:gridCol w="43099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общенная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удовая 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общенная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удовая 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11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оектирование и реализация библиотечно-педагогического обеспечения в образовательных организациях начального общего, основного общего, среднего общего образования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анирование и осуществление библиотечно-педагогической деятельности в соответствии с требованиями ФГОС общего образова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Цели и задачи сообщества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507520" cy="5472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одействие профессиональному развитию работников системы образования Пермского края посредством решения профессиональных затруднений и проблем на основе сетевого взаимодействия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оздать единое информационно-методическое пространство сетевого взаимодействия, как отдельных работников образования, так и коллективов образовательных организаций, работающих в инновационном режиме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рганизовать деятельность сетевых объединений для профессионального обсуждения, обмена мнениями и опытом, публикации материалов (разработок)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ддержать образовательные инициативы, способствовать распространению успешных педагогических практик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беспечить проведение экспертной оценки методических и других практико-ориентированных материалов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052280"/>
            <a:ext cx="8362800" cy="561636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Название сообщества: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«Сообщество педагогов Пермского края»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Общее описание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Сетевое сообщество педагогических работников Пермского края, зарегистрированных на сетевом ресурсе </a:t>
            </a:r>
            <a:r>
              <a:rPr b="0" lang="ru-RU" sz="22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www.portfolio-edu.ru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Адрес сайта: </a:t>
            </a:r>
            <a:r>
              <a:rPr b="1" lang="ru-RU" sz="22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http://educomm.iro.perm.ru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Основные формы сетевого взаимодействия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профессиональные группы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проблемные группы, объединенные решением определенной проблемы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фокус-группы, объединенные общим интересом и деятельностью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пецифика: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бсуждаются актуальные проблемы системы образования Пермского кра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30BE-24F2-487A-94DC-2C8AC797A770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7817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роектный офис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411280" y="1628640"/>
            <a:ext cx="6446880" cy="4680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одераторы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Мальщукова Ирина Вениаминовна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заведующий ЛИБЦ МАОУ Лицей №10 г. Пермь;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Шашкина Валентина Николаевна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заведующий БИЦ, педагог - библиотекарь МАОУ «Гимназия» г. Чернушк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E3EB-A332-4CB8-B288-DEC15C90077D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79280" y="4653000"/>
            <a:ext cx="2232000" cy="1655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0" y="-12600"/>
            <a:ext cx="2265480" cy="4449600"/>
          </a:xfrm>
          <a:prstGeom prst="rect">
            <a:avLst/>
          </a:prstGeom>
          <a:ln w="0">
            <a:noFill/>
          </a:ln>
        </p:spPr>
      </p:pic>
      <p:sp>
        <p:nvSpPr>
          <p:cNvPr id="111" name="Овал 1"/>
          <p:cNvSpPr/>
          <p:nvPr/>
        </p:nvSpPr>
        <p:spPr>
          <a:xfrm>
            <a:off x="1008000" y="3500280"/>
            <a:ext cx="1295640" cy="10810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7817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роектный офис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65120" y="1268280"/>
            <a:ext cx="6699240" cy="3456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Деятельность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Информационно-методическое сопровождение процессов реализации 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Программы поддержки детского и юношеского чтения в Российской Федерации</a:t>
            </a:r>
            <a:r>
              <a:rPr b="0" lang="ru-RU" sz="2000" spc="-1" strike="noStrike">
                <a:solidFill>
                  <a:srgbClr val="c00000"/>
                </a:solidFill>
                <a:latin typeface="Century Gothic"/>
              </a:rPr>
              <a:t>, 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Концепции развития школьных информационно-библиотечных центров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модернизации школьных библиотек в соответствии с </a:t>
            </a:r>
            <a:r>
              <a:rPr b="0" lang="ru-RU" sz="2000" spc="-1" strike="noStrike">
                <a:solidFill>
                  <a:srgbClr val="c00000"/>
                </a:solidFill>
                <a:latin typeface="Century Gothic"/>
              </a:rPr>
              <a:t>«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Концепцией развития школьных информационно-библиотечных центров в Пермском крае в 2018-2021 годах»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5C35-A783-407E-A919-D83B6F5370B9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0520" y="4890960"/>
            <a:ext cx="3816360" cy="1943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0" y="-12600"/>
            <a:ext cx="2265480" cy="4449600"/>
          </a:xfrm>
          <a:prstGeom prst="rect">
            <a:avLst/>
          </a:prstGeom>
          <a:ln w="0">
            <a:noFill/>
          </a:ln>
        </p:spPr>
      </p:pic>
      <p:sp>
        <p:nvSpPr>
          <p:cNvPr id="117" name="Овал 6"/>
          <p:cNvSpPr/>
          <p:nvPr/>
        </p:nvSpPr>
        <p:spPr>
          <a:xfrm>
            <a:off x="1008000" y="3500280"/>
            <a:ext cx="1295640" cy="10810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79280" y="-7920"/>
            <a:ext cx="716436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Организация работы портала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«Сообщество педагогов Пермского края»</a:t>
            </a:r>
            <a:endParaRPr b="1" lang="en-US" sz="2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4920" y="1052640"/>
            <a:ext cx="8497800" cy="41767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онтент сетевых групп структурирован по разделам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Новости»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актуальная и полезная информация о событиях в системе образования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Методическая копилка»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площадка для публикаций представляемых материалов, прошедших экспертизу. Материалы в данном разделе размещаются модератором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Документы»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- актуальные нормативно-правовые акты, относящиеся к деятельности сетевой группы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Полезные ссылки»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- ссылки на ресурсы, относящиеся к содержанию деятельности сетевых групп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Форум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обсуждение представленных пользователями материалов, а также ведение дискуссий на заданные модератором и участниками темы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Чат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переговорная площадк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24000" y="5229360"/>
            <a:ext cx="8569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53:29Z</dcterms:created>
  <dc:creator>Old_School</dc:creator>
  <dc:description/>
  <dc:language>en-US</dc:language>
  <cp:lastModifiedBy>Админ</cp:lastModifiedBy>
  <cp:lastPrinted>2017-08-25T11:48:31Z</cp:lastPrinted>
  <dcterms:modified xsi:type="dcterms:W3CDTF">2019-03-23T06:15:17Z</dcterms:modified>
  <cp:revision>223</cp:revision>
  <dc:subject/>
  <dc:title>Образование без границ</dc:title>
</cp:coreProperties>
</file>